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6C206-B088-4DE0-8CC5-93CF1B8EC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3F437-84CC-4B1E-8C8A-4CAA964E9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600B1-455F-4343-BDA9-256D4BEE7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00324-C4CC-4F8F-B023-DE35798CE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1593C-361D-420A-94DE-4D8032A9B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78756-B26F-4EA1-BC79-99D979968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49A82-76A5-471F-BAA2-F862C3A5E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0C5BF-55CB-4EC1-9853-CDB5080FD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8F613-7D6E-44C7-94BF-C1068908A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79877-C5A2-4A13-8111-0258F9F12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7E339-754B-4CCF-A21D-41242214E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79992-BF8F-44A6-B88A-3B2658B0D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5bbed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CC702-733C-4C01-93BA-2102CFD4FB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f5581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907560"/>
            <a:ext cx="792000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4026c"/>
                </a:solidFill>
                <a:latin typeface="Love Ya Like A Sister"/>
              </a:rPr>
              <a:t>Stichting Sterrenhuiz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76360" y="3141360"/>
            <a:ext cx="6400800" cy="30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278"/>
                </a:solidFill>
                <a:latin typeface="Dax"/>
              </a:rPr>
              <a:t>INLEI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278"/>
                </a:solidFill>
                <a:latin typeface="Dax"/>
              </a:rPr>
              <a:t>Film: AAN PASSIE GEEN GEBR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278"/>
                </a:solidFill>
                <a:latin typeface="Dax"/>
              </a:rPr>
              <a:t>Uit de seri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278"/>
                </a:solidFill>
                <a:latin typeface="Dax"/>
              </a:rPr>
              <a:t>“</a:t>
            </a:r>
            <a:r>
              <a:rPr b="0" lang="en-US" sz="3200" spc="-1" strike="noStrike">
                <a:solidFill>
                  <a:srgbClr val="3a0278"/>
                </a:solidFill>
                <a:latin typeface="Dax"/>
              </a:rPr>
              <a:t>Autisme een leven lang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278"/>
                </a:solidFill>
                <a:latin typeface="Dax"/>
              </a:rPr>
              <a:t>Uitgave N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92360" cy="15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2a8f2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a0278"/>
                </a:solidFill>
                <a:latin typeface="Dax"/>
              </a:rPr>
              <a:t>Inlei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a0278"/>
              </a:buClr>
              <a:buFont typeface="Dax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3a0278"/>
                </a:solidFill>
                <a:latin typeface="Dax"/>
              </a:rPr>
              <a:t>Wat is autism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a0278"/>
              </a:buClr>
              <a:buFont typeface="Dax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3a0278"/>
                </a:solidFill>
                <a:latin typeface="Dax"/>
              </a:rPr>
              <a:t>Motivatie Sterrenhuiz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a0278"/>
              </a:buClr>
              <a:buFont typeface="Dax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3a0278"/>
                </a:solidFill>
                <a:latin typeface="Dax"/>
              </a:rPr>
              <a:t>Kleinschaligheid wonen &amp; sch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a0278"/>
              </a:buClr>
              <a:buFont typeface="Dax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3a0278"/>
                </a:solidFill>
                <a:latin typeface="Dax"/>
              </a:rPr>
              <a:t>Leo Kannerhuis kenniscentr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a0278"/>
              </a:buClr>
              <a:buFont typeface="Dax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3a0278"/>
                </a:solidFill>
                <a:latin typeface="Dax"/>
              </a:rPr>
              <a:t>De Brouwerij scho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3a0278"/>
                </a:solidFill>
                <a:latin typeface="Dax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5364000" y="1557360"/>
            <a:ext cx="3113280" cy="44640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92360" cy="15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5bbed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a0278"/>
                </a:solidFill>
                <a:latin typeface="Dax"/>
              </a:rPr>
              <a:t>Huidige situat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94920" y="1557360"/>
            <a:ext cx="5194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3a0278"/>
              </a:buClr>
              <a:buFont typeface="Dax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3a0278"/>
                </a:solidFill>
                <a:latin typeface="Dax"/>
              </a:rPr>
              <a:t>Opzetten van de stich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3a0278"/>
              </a:buClr>
              <a:buFont typeface="Dax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3a0278"/>
                </a:solidFill>
                <a:latin typeface="Dax"/>
              </a:rPr>
              <a:t>Liefdevolle aandacht respect,eerlijkhe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3a0278"/>
              </a:buClr>
              <a:buFont typeface="Dax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3a0278"/>
                </a:solidFill>
                <a:latin typeface="Dax"/>
              </a:rPr>
              <a:t>“</a:t>
            </a:r>
            <a:r>
              <a:rPr b="0" lang="nl-NL" sz="3200" spc="-1" strike="noStrike">
                <a:solidFill>
                  <a:srgbClr val="3a0278"/>
                </a:solidFill>
                <a:latin typeface="Dax"/>
              </a:rPr>
              <a:t>Mag ik zijn wie ik ben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3a0278"/>
              </a:buClr>
              <a:buFont typeface="Dax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3a0278"/>
                </a:solidFill>
                <a:latin typeface="Dax"/>
              </a:rPr>
              <a:t>Website (.eu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3a0278"/>
              </a:buClr>
              <a:buFont typeface="Dax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3a0278"/>
                </a:solidFill>
                <a:latin typeface="Dax"/>
              </a:rPr>
              <a:t>Publicitei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3a0278"/>
              </a:buClr>
              <a:buFont typeface="Dax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3a0278"/>
                </a:solidFill>
                <a:latin typeface="Dax"/>
              </a:rPr>
              <a:t>Flyer : sponsor gevraag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92360" cy="15494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5508720" y="1916280"/>
            <a:ext cx="331128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494"/>
            </a:gs>
            <a:gs pos="100000">
              <a:srgbClr val="fefe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a0278"/>
                </a:solidFill>
                <a:latin typeface="Dax"/>
              </a:rPr>
              <a:t>Dit willen wij bereik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a0278"/>
              </a:buClr>
              <a:buFont typeface="Dax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278"/>
                </a:solidFill>
                <a:latin typeface="Dax"/>
              </a:rPr>
              <a:t>Bekendhe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a0278"/>
              </a:buClr>
              <a:buFont typeface="Dax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278"/>
                </a:solidFill>
                <a:latin typeface="Dax"/>
              </a:rPr>
              <a:t>Begr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a0278"/>
              </a:buClr>
              <a:buFont typeface="Dax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278"/>
                </a:solidFill>
                <a:latin typeface="Dax"/>
              </a:rPr>
              <a:t>8 to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a0278"/>
              </a:buClr>
              <a:buFont typeface="Dax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278"/>
                </a:solidFill>
                <a:latin typeface="Dax"/>
              </a:rPr>
              <a:t>1</a:t>
            </a:r>
            <a:r>
              <a:rPr b="0" lang="en-US" sz="3200" spc="-1" strike="noStrike" baseline="30000">
                <a:solidFill>
                  <a:srgbClr val="3a0278"/>
                </a:solidFill>
                <a:latin typeface="Dax"/>
              </a:rPr>
              <a:t>e</a:t>
            </a:r>
            <a:r>
              <a:rPr b="0" lang="en-US" sz="3200" spc="-1" strike="noStrike">
                <a:solidFill>
                  <a:srgbClr val="3a0278"/>
                </a:solidFill>
                <a:latin typeface="Dax"/>
              </a:rPr>
              <a:t> sterrenhuis in 2010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278"/>
                </a:solidFill>
                <a:latin typeface="Dax"/>
              </a:rPr>
              <a:t>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92360" cy="15494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6012000" y="1628640"/>
            <a:ext cx="2447640" cy="38163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1258920" y="4149720"/>
            <a:ext cx="3251160" cy="21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ecc6e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a0278"/>
                </a:solidFill>
                <a:latin typeface="Dax"/>
              </a:rPr>
              <a:t>Wetenswaardighed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90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a0278"/>
              </a:buClr>
              <a:buFont typeface="Dax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3a0278"/>
                </a:solidFill>
                <a:latin typeface="Dax"/>
              </a:rPr>
              <a:t>Sterrenkindere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3a0278"/>
                </a:solidFill>
                <a:latin typeface="Dax"/>
              </a:rPr>
              <a:t>	</a:t>
            </a:r>
            <a:r>
              <a:rPr b="0" lang="nl-NL" sz="2800" spc="-1" strike="noStrike">
                <a:solidFill>
                  <a:srgbClr val="3a0278"/>
                </a:solidFill>
                <a:latin typeface="Dax"/>
              </a:rPr>
              <a:t>G. Kühlewi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a0278"/>
              </a:buClr>
              <a:buFont typeface="Dax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3a0278"/>
                </a:solidFill>
                <a:latin typeface="Dax"/>
              </a:rPr>
              <a:t>Samen kijken naar autisme Sanne-Lot van Ulz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a0278"/>
              </a:buClr>
              <a:buFont typeface="Dax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3a0278"/>
                </a:solidFill>
                <a:latin typeface="Dax"/>
              </a:rPr>
              <a:t>Prof. Van der Gaag, internationaal erkend autisme- expert (Radbou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a0278"/>
              </a:buClr>
              <a:buFont typeface="Dax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3a0278"/>
                </a:solidFill>
                <a:latin typeface="Dax"/>
              </a:rPr>
              <a:t>Dr. Martine Delfos , wetenschapper, docent, schrij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92360" cy="1549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5580000" y="1341360"/>
            <a:ext cx="283536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9562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a0278"/>
                </a:solidFill>
                <a:latin typeface="Dax"/>
              </a:rPr>
              <a:t>Belangrijke punt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a0278"/>
              </a:buClr>
              <a:buFont typeface="Dax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3a0278"/>
                </a:solidFill>
                <a:latin typeface="Dax"/>
              </a:rPr>
              <a:t>Het beste idee uitgevoerd in september 20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a0278"/>
              </a:buClr>
              <a:buFont typeface="Dax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3a0278"/>
                </a:solidFill>
                <a:latin typeface="Dax"/>
              </a:rPr>
              <a:t>Realistische opzet oa. low budg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a0278"/>
              </a:buClr>
              <a:buFont typeface="Dax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3a0278"/>
                </a:solidFill>
                <a:latin typeface="Dax"/>
              </a:rPr>
              <a:t>Logo inta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a0278"/>
              </a:buClr>
              <a:buFont typeface="Dax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3a0278"/>
                </a:solidFill>
                <a:latin typeface="Dax"/>
              </a:rPr>
              <a:t>Eindpresenta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92360" cy="15494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4788000" y="1628640"/>
            <a:ext cx="354312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5353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a0278"/>
                </a:solidFill>
                <a:latin typeface="Dax"/>
              </a:rPr>
              <a:t>Suc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763640" y="1413000"/>
            <a:ext cx="5975280" cy="417348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43280" y="5734080"/>
            <a:ext cx="45432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3a0278"/>
                </a:solidFill>
                <a:latin typeface="Dax"/>
              </a:rPr>
              <a:t>www.sterrenhuizen.e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92360" cy="15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8T17:29:11Z</dcterms:created>
  <dc:creator>Yvonne</dc:creator>
  <dc:description/>
  <dc:language>en-US</dc:language>
  <cp:lastModifiedBy>Yvonne</cp:lastModifiedBy>
  <dcterms:modified xsi:type="dcterms:W3CDTF">2010-02-07T15:06:06Z</dcterms:modified>
  <cp:revision>26</cp:revision>
  <dc:subject/>
  <dc:title>sterrenhuizen</dc:title>
</cp:coreProperties>
</file>