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2ED-D381-4A87-9CEC-6E81A4E0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AF4-9626-4190-9A9F-33152A1E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606-FA92-40ED-852F-38F49B7F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BBA-BA69-48A9-B608-FB951733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17E-EDB4-401A-907D-05CEEBD4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CE4-2C72-405C-8930-724BA118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CFA-8080-4CF7-AB97-E72FD6E0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575-BFB3-4CA0-9A6A-7B8E035D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BB6-7BDC-4BC6-ABCA-7B9C48A3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5ED-B9DA-4B40-964B-F2FE965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1F8-EA22-4516-8588-91C8A5C8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D60-0DED-405C-9DCC-9628DAC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bed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2B11-19F9-4822-B701-3DB7166CA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5581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026c"/>
                </a:solidFill>
                <a:latin typeface="Love Ya Like A Sister"/>
              </a:rPr>
              <a:t>Stichting Sterrenhu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6400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278"/>
                </a:solidFill>
                <a:latin typeface="Dax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Film: AAN PASSIE GEEN 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Uit de ser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“</a:t>
            </a: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Autisme een leven la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Uitgave N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a8f2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Wat is autis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Motivatie Sterrenhui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Kleinschaligheid wonen &amp;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Leo Kannerhuis kenniscen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De Brouwerij 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1328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bbed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Opzetten van de st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Liefdevolle aandacht respect,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“</a:t>
            </a: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Mag ik zijn wie ik b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Website (.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Publicit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Flyer : sponsor gevraag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3311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494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Dit willen wij berei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Bekend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Be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8 t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1</a:t>
            </a:r>
            <a:r>
              <a:rPr b="0" lang="en-US" sz="3200" spc="-1" strike="noStrike" baseline="30000">
                <a:solidFill>
                  <a:srgbClr val="3a0278"/>
                </a:solidFill>
                <a:latin typeface="Dax"/>
              </a:rPr>
              <a:t>e</a:t>
            </a: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 sterrenhuis in 201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278"/>
                </a:solidFill>
                <a:latin typeface="Dax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12000" y="1628640"/>
            <a:ext cx="244764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58920" y="4149720"/>
            <a:ext cx="32511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cc6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Wetenswaardighe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Sterrenkind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	</a:t>
            </a: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G. Kühle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Samen kijken naar autisme Sanne-Lot van Ul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Prof. Van der Gaag, internationaal erkend autisme- expert (Radbou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Dr. Martine Delfos , wetenschapper, docent, schrij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835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9562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Belangrijke pu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Het beste idee uitgevoerd in sept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Realistische opzet oa. low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Logo i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278"/>
              </a:buClr>
              <a:buFont typeface="D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a0278"/>
                </a:solidFill>
                <a:latin typeface="Dax"/>
              </a:rPr>
              <a:t>Eind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54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35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278"/>
                </a:solidFill>
                <a:latin typeface="Dax"/>
              </a:rPr>
              <a:t>Suc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975280" cy="4173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43280" y="5734080"/>
            <a:ext cx="45432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a0278"/>
                </a:solidFill>
                <a:latin typeface="Dax"/>
              </a:rPr>
              <a:t>www.sterrenhuizen.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2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29:11Z</dcterms:created>
  <dc:creator>Yvonne</dc:creator>
  <dc:description/>
  <dc:language>en-US</dc:language>
  <cp:lastModifiedBy>Yvonne</cp:lastModifiedBy>
  <dcterms:modified xsi:type="dcterms:W3CDTF">2010-02-07T15:06:06Z</dcterms:modified>
  <cp:revision>26</cp:revision>
  <dc:subject/>
  <dc:title>sterrenhuizen</dc:title>
</cp:coreProperties>
</file>